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AF1-1917-41EA-B264-1A8E8500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7AE-3307-4E59-9262-C4158B50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7A8-8A5A-491D-95F7-33BB4A7A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40D2-063F-4EE5-88BB-1B607C6F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AF3-B17C-4EB3-B6D1-62206DD6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D6C-8B50-488A-AA7C-9408AEFB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696-518D-4458-8B93-EFB7DD01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7EC-8A90-46ED-A4B3-EF982F9F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96B-DB23-4E8C-B09A-A255654B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0AA-480C-4BEA-8F07-2D941053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00A-3464-4E3B-8631-95709442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403-681C-4660-9803-79CCCA71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7ACB-7098-40E7-821A-15E9399E1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600" y="701640"/>
            <a:ext cx="16765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648320"/>
            <a:ext cx="1067040" cy="99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76520"/>
            <a:ext cx="106704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666880"/>
            <a:ext cx="106704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1067040" cy="990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kip a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960" y="565632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63868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56386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3760" y="565632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5638680"/>
            <a:ext cx="1066680" cy="990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4648320"/>
            <a:ext cx="10666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65760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6668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ate $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cha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676520"/>
            <a:ext cx="106668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685800"/>
            <a:ext cx="1066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68580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685800"/>
            <a:ext cx="1067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85800"/>
            <a:ext cx="1066680" cy="990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68320" y="2660760"/>
            <a:ext cx="3014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Money Game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324480" y="2238480"/>
            <a:ext cx="2819520" cy="1600200"/>
            <a:chOff x="6324480" y="2238480"/>
            <a:chExt cx="2819520" cy="1600200"/>
          </a:xfrm>
        </p:grpSpPr>
        <p:sp>
          <p:nvSpPr>
            <p:cNvPr id="61" name=""/>
            <p:cNvSpPr/>
            <p:nvPr/>
          </p:nvSpPr>
          <p:spPr>
            <a:xfrm>
              <a:off x="6400800" y="2543040"/>
              <a:ext cx="2590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am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24480" y="2238480"/>
              <a:ext cx="281952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8839080" y="892080"/>
            <a:ext cx="914400" cy="60984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5520" y="779400"/>
            <a:ext cx="1228680" cy="1036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44680" y="3813120"/>
            <a:ext cx="1947960" cy="156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77800" y="2685960"/>
            <a:ext cx="1141560" cy="96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879800" y="4695840"/>
            <a:ext cx="1076400" cy="87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531120" y="2314440"/>
            <a:ext cx="2205000" cy="1497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5960" y="893880"/>
            <a:ext cx="15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15200" y="4888080"/>
            <a:ext cx="241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338880" y="4273560"/>
            <a:ext cx="2805120" cy="1766520"/>
            <a:chOff x="6338880" y="4273560"/>
            <a:chExt cx="2805120" cy="1766520"/>
          </a:xfrm>
        </p:grpSpPr>
        <p:sp>
          <p:nvSpPr>
            <p:cNvPr id="72" name=""/>
            <p:cNvSpPr/>
            <p:nvPr/>
          </p:nvSpPr>
          <p:spPr>
            <a:xfrm>
              <a:off x="6414480" y="4608000"/>
              <a:ext cx="25772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am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38880" y="4273560"/>
              <a:ext cx="2805120" cy="1766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840200" y="1700280"/>
            <a:ext cx="1152720" cy="86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531120" y="4351320"/>
            <a:ext cx="2226960" cy="1670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8002440" y="701640"/>
            <a:ext cx="1141560" cy="963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840200" y="701640"/>
            <a:ext cx="1141560" cy="963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4840200" y="5656320"/>
            <a:ext cx="1141560" cy="963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577800" y="5694480"/>
            <a:ext cx="1141560" cy="963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7029360" y="741240"/>
            <a:ext cx="1038240" cy="86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539640" y="4735440"/>
            <a:ext cx="115272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4"/>
          <a:stretch/>
        </p:blipFill>
        <p:spPr>
          <a:xfrm>
            <a:off x="2805120" y="5734080"/>
            <a:ext cx="9604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8580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657600"/>
            <a:ext cx="10670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685800"/>
            <a:ext cx="106704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676520"/>
            <a:ext cx="106704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66688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648320"/>
            <a:ext cx="1067040" cy="99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563868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52800" y="5656320"/>
            <a:ext cx="1066680" cy="990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5638680"/>
            <a:ext cx="10666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5638680"/>
            <a:ext cx="106704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648320"/>
            <a:ext cx="106704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3657600"/>
            <a:ext cx="106704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666880"/>
            <a:ext cx="1067040" cy="990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 Demi"/>
              </a:rPr>
              <a:t>Lose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 Demi"/>
              </a:rPr>
              <a:t>Go back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1676520"/>
            <a:ext cx="106704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685800"/>
            <a:ext cx="106704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68580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68580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685800"/>
            <a:ext cx="10670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3657600"/>
            <a:ext cx="167616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666880"/>
            <a:ext cx="1067040" cy="990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1676520"/>
            <a:ext cx="1067040" cy="99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2666880"/>
            <a:ext cx="106668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2666880"/>
            <a:ext cx="106668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28954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10800" y="4849920"/>
            <a:ext cx="1187280" cy="1447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457200" y="8985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723000" y="4767120"/>
            <a:ext cx="2090880" cy="2090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226040" y="663480"/>
            <a:ext cx="1141200" cy="96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226040" y="5694480"/>
            <a:ext cx="1141200" cy="963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038240" y="4657680"/>
            <a:ext cx="1141560" cy="963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038240" y="1700280"/>
            <a:ext cx="1141560" cy="963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7451640" y="741240"/>
            <a:ext cx="1152720" cy="86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4226040" y="3697200"/>
            <a:ext cx="1152360" cy="86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2114640" y="5694480"/>
            <a:ext cx="1152360" cy="8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1000080" y="2698920"/>
            <a:ext cx="1152720" cy="863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1076400" y="741240"/>
            <a:ext cx="1076400" cy="873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4264200" y="1739880"/>
            <a:ext cx="107604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02:40:31Z</dcterms:created>
  <dc:creator>Connie Campbell</dc:creator>
  <dc:description/>
  <dc:language>en-US</dc:language>
  <cp:lastModifiedBy>Kathy</cp:lastModifiedBy>
  <dcterms:modified xsi:type="dcterms:W3CDTF">2010-02-14T17:59:11Z</dcterms:modified>
  <cp:revision>7</cp:revision>
  <dc:subject/>
  <dc:title>Slide 1</dc:title>
</cp:coreProperties>
</file>